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07A6-D98E-4CB3-97D1-A2F35AE6F1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1CDE-E225-4309-AD45-40DD5982307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A353-5615-4E39-9801-B17C5D36651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5AA4-E77F-4814-847F-E0349AFD046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02D0-3A33-4148-9ADE-5050666A07D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BE78-FF5A-4BFF-BCD2-6BCAAE95ED0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715A-33BF-4294-A713-3308D8A5BDC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E60C-76F1-4FB0-B152-33D7A22F916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6BFA-B435-47DA-8299-41F575AAAD5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266B-5543-4212-B8F0-E69C764138A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CA0F-6B49-41CA-A210-3AD90F1FDE3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5DD6-7912-4CEC-869C-1E20BC45951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AD62-FB68-412D-AF8C-EFD2D233C18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;  ; ce qui consomme une ressource rare dans un dispositif dont la mission principale n’est pas la médecine d'urgence (rôle dévolu au S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 qui consomme une ressource rare dans des dispositifs dont la mission principale n’est pas la médecine d'urgence (rôle dévolu au services des urgences publics et privés autorisés par l’ARS) ; ce qui, en outre, n’est pas sans ris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B0CB-2654-444E-89DC-69C24F43E49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A02C-CF03-4B6F-8440-038E02A5DE7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ACBD-831F-40E1-B9F7-787EA88A7AC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B48B-8E98-4BB0-AD67-7AFB1132A09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7B3-5CD7-4C02-9DBF-443D0755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AE13-B8F4-4B43-8EBD-96924EC9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B28AF1-C454-4885-A154-472EE43B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EE056A-21D2-455F-8C47-31AD3ACE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6A96A5-3407-4E91-B811-4EEF4D38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4E50BC-9A62-4BC2-BAE1-E0F05E71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5A1C37-ADB6-4043-AD60-77C48B57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6BC9DA-67D3-420D-9A72-7D99D3A0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D74C71-6104-47E7-9F4C-6FB94615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223FC1-2CAD-4CAC-9319-D12DD2A2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8124A0-17B8-4F8A-A54D-C1A0A1E8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6563C2-1458-43F7-8156-9EC76742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589-3298-4850-BE25-FE064598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A1DC54-7A87-41E8-8122-3C758D6B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C72311-0B12-471D-9D82-FFC8DA86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B916E7-BD88-4D55-9417-99D6FB1B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14B882-0077-464F-81B6-F0EE3284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B79532-6D38-4B42-84B8-4CFBF311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C6E762-B829-4B98-8A52-F08CCC6D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D43D8B-6156-45FE-80EB-568F3A22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EF9F21-1C7B-4815-BCB5-AA675C2D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64458C-0AD3-4320-972B-2F4C8948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F51D5C-2EC6-4227-992C-5EB1AC70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A96D-0038-4753-9C96-9E7E8476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A8B0D5-1D7E-48E7-AD23-1CE818F2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62F36-6DD4-41A5-A6D9-DC0936E3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C41FE-B8CD-4304-B6B6-681487DE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D355D-310B-4A10-90E6-96890D09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55229-C18C-4AB8-95F1-91F7ABEB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29845-686F-4D15-956A-6311D3B0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E934C-A6B1-4415-83CF-F75B5F19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D5167-D01A-4147-8381-17D4F8B4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703D3-991D-4C77-9697-70B12379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15A8F-8FCE-4451-BF1F-52895F8C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346A7-9A76-4E72-BC74-1AE45F58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3EEC4-8F79-4114-84F8-664CB7D4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115B5-3621-40C3-B863-23D5C8FB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26452-541D-4F2D-B64F-757253AF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A5083-1524-4D27-BBC2-863C4183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1EB63-FC67-4CDB-BB73-641ECAF6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A4F0B-6FE5-41A5-A5DD-A7A578BD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93462-E5D3-414A-84F4-DC338AF6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C3AFB-3A16-46B3-9D96-7DF7913A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0191D-3AF7-4C58-828A-73471D2A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33DCA-7BA4-4F92-908D-84814945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29950-5633-4F06-873F-B2D4DE10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80B9E-C731-4C66-9DB1-B58257EA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37665-D87A-4C67-9A3A-C7B6BA2A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A38CE-66E9-422B-8E6F-E3919871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912AC-5EC8-4E30-8248-0B3ACDAE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AD10E-B872-4201-AD06-7ADEC271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811FC-3869-4F80-88CE-011838BA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0B28E-DAAF-4EC0-A077-8110A0B7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4D1DA-A520-4DEF-8463-697AB8E0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EF481-0C8B-48C7-898D-A6119284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187B0-904C-4915-94C5-395A777F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7B54-C452-45C1-8843-F479CA3E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895F0-B2D4-41FE-BF65-E3150E70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A49F6-AC7C-4F26-A35A-8EE7466D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D50BB-CDF4-4E19-AF3F-950B941B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17C34-3B25-41EF-932E-BD43F64E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BE35A-17D4-42D2-BCF5-6B69F4C0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E64B7-5B04-4C5F-9460-97536071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8F53D-7A68-4644-B495-CFAA7A46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B2560-2822-4D56-9F00-51D5897F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0ED05-7AF2-4AEF-BB12-02A91DE4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38408-6F9F-4905-90D0-1952D0AC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18E-7E32-466B-A0C4-6120C587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F250A-C182-448B-BCA9-2568E4E3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3A583-AF67-470F-BA2F-D9DF693C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6DEDE-255F-45BD-BB96-1E7D84A0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F49E3-19C5-4C70-B6EC-6EE5AF2E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63386-F947-4A94-9344-5284FD71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7428B-85E7-4BC5-9B34-4083FC8B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0C4FB-206E-42DF-BD78-75E8E799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E143B0-B272-4742-B5BD-A59FAB79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B8FC1C-55B8-42EC-94CA-369DD53F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FCB201-5A4D-410B-A66B-3BCE1BCA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037-20BA-4142-9FF3-F619D8A6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45C4A6-25B4-4F7C-A79D-BDDEE9AC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C81A2C-249A-4DEF-B598-E5B726E6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10C371-8266-4209-9B08-E3DBE299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635583-26DC-48FC-AC98-C9EFE6B4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B7B4A3-DE69-4E72-B4D6-E56110C1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3B6083-3225-48DF-AA9E-4F9657DC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47365F-53A0-4BA4-95C7-9386FA7A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EFDE36-3451-4C45-AB2D-9076B895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A8B052-A164-40DB-9C91-AC94226A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0D4AD-C635-41D7-9011-BDCBC058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0278-F1E5-410A-BA48-137DD075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D1919-9DC7-45A7-AAD5-3694457A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F2E01-09CA-4869-BFDF-2C0FE41C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E6B16-C439-48B5-A4C1-27677B91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4AE10-C0B6-4CF9-A961-F4CCDFC8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288EB-E9BC-47A6-8ECB-58249117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FC765-BB83-427A-990E-BE1D7AC2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C200B-C41E-424F-83C1-58330FAE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9BA7C-93F1-42D8-9C7F-21C219A8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C5E23-C423-4553-A060-0E4CE97A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F385B-91E9-4B5F-8D5F-152AC50B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199F-DFF7-44E9-9010-B452B1BE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3E559-3A49-4C92-B531-41EC001B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7AAE9-602C-4293-BD41-73425AC2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6F550-B220-4476-BCC0-B7AE2E24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2FAFC-A376-4117-BDCD-DE4C0193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EADE9-C2A7-41EA-99AA-CA50F030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DE9B9-516E-4066-9202-674B1B5E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28D68-BAEC-442A-8A0C-6CBB7DF9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EEF9E-337C-4360-A75D-6176BD17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F0387-70B2-459C-99C9-0AB24649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2C0B4-43D7-4CBD-B163-2274C98F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1AB9-D047-4351-A4C6-AFD2EB0C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75556-3C85-459C-A961-BF60D222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26BD4-4565-4C05-954C-37AF0678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33D14-6707-4556-BA9D-3DB673EC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CF1B9-202A-4C62-8324-2F539F47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B047D-65BA-4F9B-BFF5-421432A1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1839B-6590-4306-BD5D-5D319F97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A7865-A344-4AF5-8BC7-27187A1D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E097D-49C0-49E6-BC59-C1D870B1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5BDA6-ED9D-4AD1-9F57-8F0395A6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35434-3DA5-4702-B90B-F8372C17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19FD-0421-4E2C-999D-2A28C507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B4A87-A6B3-45B9-9A2B-68DA45B9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BFC7A-0E3B-4DE9-96BD-72836594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EC9AC-C565-4759-AAB8-953A34DD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508F0-F4BF-488F-9A41-9E2AB866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16920-3631-4C38-B34B-EB480BE8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51E5E-980F-458F-903F-6BB6A52D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2AEAF-FE92-4E8A-91B6-DA971D34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DE931-78AE-4ECA-BF91-2F655FD5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90066-F033-480C-96F7-C73F60FD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2477B-8153-45BD-8A6B-493A3672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A9DC-25FC-4413-BAD5-3D6AE63E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C1C21-FCEF-4690-9D52-599D957B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4464C-744D-41ED-AC97-0C8AAADC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56F71-9C92-4ED5-89B8-BFF71C62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2C318-4E3F-4C6A-90EA-109A5DE6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9F062-7C21-4A77-84BA-CC6BDA82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AFCF7-6223-46A0-8820-0BBF75B5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A1238-F928-4457-93C7-556B40D3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D95FE8-1DFB-4FB3-889B-AEB8CDCB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2587CF-C17F-4C17-B1BF-139857B7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96745E-759C-4AFA-A890-E004627D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CD8D-8593-48FE-88CC-AC36DAA7E53E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9AD0-8F2E-4A09-8569-54EFA15C14B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BA1F-5B87-48EB-9F89-A4ADD101ED44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E731-AF0D-4130-A631-C5DF435AEA5D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rrondir un rectangle avec un coin diagonal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7527-2FDA-42B0-9FD1-EF051DC387B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3108-361A-4B2A-A47E-D984BE45D5F7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86A5-142D-470B-B231-7997316E894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6A96-4887-4514-A626-396297D14DD1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4672-6E0E-4961-BC79-8A44EC7049F5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56DF-4A7F-4C1A-B460-712306A9953F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2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D1CE-ED3F-4B13-BE62-F5C93E6BAA39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640D-A73A-454F-BBA6-7ED0FA680DD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583480" cy="24019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Marc GIRO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conférence territoriale du 95 , le 28 février 201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aisons de santé pluridisciplinair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ordonn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généralistes non regroup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dc097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1F33-32DE-4A87-89E6-C13822A0F010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’usage d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M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filièr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(ex : A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artenari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EHPAD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, 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HAD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F934-E4A9-4FDA-A8B9-2DC9139261E3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pérations hospitaliè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consultations avancé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équipe d’urgentistes de territoi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203D-D594-4F27-B0CC-207B16FF2D3D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ompagnement social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ur les cas où les problèmes médicaux semblent conditionnés par la situation sociale (solitude, vulnérabilité…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339F-A6ED-4468-AE90-614E9B69F864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Bon usage des ressourc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(dialogue / médecin régulateu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ouleur thoracique, AVC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3882-CD42-4A3D-9D5F-3D2DE1E083B6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ecteur Est (Gones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mur pédiatri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édecins correspondants de Sam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F2DB-0536-4750-8CFF-73D4C68AD36D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ravail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ingénie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quotidiennes liées à la circu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liées à la charge de travail des équip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Saisonnalit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gistr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cas graves pris en charge en plus de 30m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F248-816B-498F-B38B-BBD65EFE9241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erritoir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bain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o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ux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as certain que le déficit soit plus important en zone rur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ituation du Vexin franç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e territoire est, certes,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ficitai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mais il est bie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eintur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d’établissements de santé (pas tous dans le 95) : Pontoise, Osny, L’Isle-Adam, Beaumont, Méru, Gisors, Vernon, Mantes, Meulan, Evecquemo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exi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ériurbai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et Vexin authentiquem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AB42-D1E0-4A9D-A8EA-46FE046B420C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DSA = (pour l’essentiel) SOS Médec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en PDSA =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lai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souvent dissuasif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’efficacité de la PDSA serait multipliée si les interventions de SOS Médecins étai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rdonnée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e Centre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0358-4CF9-4D8A-B74A-3EFB2FEB041E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cours au 15 inappropri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abinets médicaux :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 non coordonn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ériodes critiq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épondeur : renvoi au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recours au 15 po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etour d’exam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ontinuité du trai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passages aux urg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681B-9DB7-474C-BDA9-7B3CF4690085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455400" cy="11588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a régulation médicale = outi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 progrès médical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égalité soci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optimisation de l’emploi des ressources</a:t>
            </a:r>
            <a:br>
              <a:rPr sz="2400"/>
            </a:b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généralistes libéraux participent à la régulation médic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puis dix ans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’est u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uccè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mplémentarit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généralistes + urgent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lle pourrait être plus employé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ès à la PDSA insuffisamment régul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F00F-D081-4B1F-BC02-4AA0BB8A6F57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consultations non programmées se développent dans des établissements privés avec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es pompiers disposent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temps-ple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upture du principe de complémentarité Samu-Sd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n’est pas sans ris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consomme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ssource rare des 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ans des dispositifs dont ce n’est pa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issio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rincip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a médecine d'urgence est le rôle dévolu aux services d’urgence publics et privé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utorisé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’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1550-DC38-4499-8123-55B7B9ECCF97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18600" cy="541152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ncourager les généralistes à anticip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’urgence attendues ou prévisibles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mieux informer les patients de ce qui peut leur arrive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rédiger pour les malades chroniques des fiches de liais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e fin de vi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F100-C47F-4B93-8D9F-60A25592C28E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égulation médical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u Centre 15 et notamment la participation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général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ller plus loin dan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rescription téléphoniqu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ar le Centre 15 (selon recommandations HA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7349-2B77-4E69-9374-CC8B59E17535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10:44Z</dcterms:created>
  <dc:creator>Marc GIROUD</dc:creator>
  <dc:description/>
  <dc:language>en-US</dc:language>
  <cp:lastModifiedBy>CHRD</cp:lastModifiedBy>
  <dcterms:modified xsi:type="dcterms:W3CDTF">2013-02-28T11:09:46Z</dcterms:modified>
  <cp:revision>133</cp:revision>
  <dc:subject/>
  <dc:title> les métiers de la santé  et l’urgence</dc:title>
</cp:coreProperties>
</file>